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438-BFFF-47AF-9C68-14D4A68EA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4CF3-7C13-4673-AE12-C394191E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B82B-9434-44DF-B3DF-C5262E23B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72FC-2B20-417A-ACF6-A92F4A30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C5D0-E094-46ED-BC57-ABF85B03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2A43F-1889-4E59-A840-34E9B57B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46A4-44FA-4E11-A199-95D11D28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7326-E69C-42D5-B1B7-B0AD83F7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73A8-9420-4DB0-8174-483F0D55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2DC1-9B90-4518-9CA7-E18E1CB8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E46-616D-4E1A-8D5C-4A7E182A6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D108-E1B9-4DB5-B332-A4491240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0AC54-AD39-450A-85E2-0A0060C88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09-04-16T02:32:35Z</dcterms:modified>
  <cp:revision>2</cp:revision>
  <dc:subject/>
  <dc:title/>
</cp:coreProperties>
</file>