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0D19-8C17-42F8-896F-566BD31FC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D033-71DB-49A0-B499-234E32A8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CA8B-1383-44B8-A0DC-D597F05FA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CFB8-EF75-4B2F-B6DF-81453F5A1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BEFE-1323-420F-9786-E3A2F683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061E-A12B-423A-9F7E-894C8B03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2BE2-8635-4A1E-A772-50737ABA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A7A6-B965-4365-A206-470DA972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F334-B652-4387-820C-B781C112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98ED-0F04-4530-9959-F2B7A369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0D10-A8BD-474D-8771-49F0FBA0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F4BE-7260-41DA-8A1B-20EE1631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A5A777-D864-4D68-82BB-DEF60F23F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09-04-16T02:32:35Z</dcterms:modified>
  <cp:revision>2</cp:revision>
  <dc:subject/>
  <dc:title/>
</cp:coreProperties>
</file>